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6C5BF-FB53-4167-8389-4FF09C07F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2C805-B692-41CE-B56F-3E14AF83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D55AC-338B-443F-B334-B8A7876E8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BD9CE-9A3E-4F0C-B6FC-C4A1B2C66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3FB1C-FC7F-46C7-AA93-9A6B70DBE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5DAB2-DE7A-4189-86B7-D22976AB1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80B21-5E3D-4E59-B0CD-646D6110A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C027A-9943-4565-8916-498ECC426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1C252-7EA3-4182-A2BA-035AF2EBA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A17C6-7A44-4904-A216-6BBD3A237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94B24-2CC7-42AD-B3DD-631276D46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CAFB8-529E-4C40-A457-3700DF60A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4D4CB-4D14-4225-A6F9-69FFA1ACB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75913-A1E8-49AC-8C74-14D2D9D7A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CD595-059A-464F-A2F5-AA6837369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DEAA3-56AC-4F97-B453-2AA6B5187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CD95C-AA73-4890-A322-47F40DDA0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BF5F3-5030-40D7-8EA3-2CACBAB86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F163F-83C9-40F2-8AB0-3F959C635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DA8B-30E9-4D0C-9B71-27C584105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BC67-144B-400C-B7DC-9DAF3374A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182C-8511-486E-A67B-F0F9A80B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7EF2-7D02-46C8-8F35-0A5435926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F9BF7-0003-4DA4-AAAC-2688E0CE2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9EA5-38FC-49C2-A0B4-58D42691329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4E3A-0506-4916-8C9B-42FA6F7D7D9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kohlbach.org/morocco/_borders/MOROCCO.gif&amp;imgrefurl=http://www.kohlbach.org/morocco/index.htm&amp;usg=__aMGx2PNP6rtxtjN4hqlPZWAiyrE=&amp;h=321&amp;w=500&amp;sz=10&amp;hl=en&amp;start=28&amp;tbnid=7LgxfTMApk9JiM:&amp;tbnh=83&amp;tbnw=130&amp;prev=/images%3Fq%3DMorocco%26start%3D21%26gbv%3D2%26hl%3Den%26safe%3Dactive%26sa%3DN"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ographia.com/morocco" TargetMode="External"/><Relationship Id="rId2" Type="http://schemas.openxmlformats.org/officeDocument/2006/relationships/hyperlink" Target="http://www.cia.gov/library/publications/the-world-factbook/" TargetMode="External"/><Relationship Id="rId3" Type="http://schemas.openxmlformats.org/officeDocument/2006/relationships/hyperlink" Target="http://www.nationalgeographic.com/" TargetMode="External"/><Relationship Id="rId4" Type="http://schemas.openxmlformats.org/officeDocument/2006/relationships/hyperlink" Target="http://en.wikipedia.org/" TargetMode="External"/><Relationship Id="rId5" Type="http://schemas.openxmlformats.org/officeDocument/2006/relationships/hyperlink" Target="http://goafrica.about.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Morocco</a:t>
            </a:r>
            <a:endParaRPr b="0" lang="en-US" sz="6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Amanda Guinn</a:t>
            </a:r>
            <a:endParaRPr b="0" lang="en-US" sz="3200" spc="-1" strike="noStrike">
              <a:solidFill>
                <a:srgbClr val="000000"/>
              </a:solidFill>
              <a:latin typeface="Tahoma"/>
            </a:endParaRPr>
          </a:p>
        </p:txBody>
      </p:sp>
      <p:pic>
        <p:nvPicPr>
          <p:cNvPr id="101" name="" descr="">
            <a:hlinkClick r:id="rId1"/>
          </p:cNvPr>
          <p:cNvPicPr/>
          <p:nvPr/>
        </p:nvPicPr>
        <p:blipFill>
          <a:blip r:embed="rId2"/>
          <a:stretch/>
        </p:blipFill>
        <p:spPr>
          <a:xfrm>
            <a:off x="5638680" y="1447920"/>
            <a:ext cx="1238400" cy="790560"/>
          </a:xfrm>
          <a:prstGeom prst="rect">
            <a:avLst/>
          </a:prstGeom>
          <a:ln w="0">
            <a:noFill/>
          </a:ln>
        </p:spPr>
      </p:pic>
      <p:pic>
        <p:nvPicPr>
          <p:cNvPr id="102" name="" descr=""/>
          <p:cNvPicPr/>
          <p:nvPr/>
        </p:nvPicPr>
        <p:blipFill>
          <a:blip r:embed="rId3"/>
          <a:stretch/>
        </p:blipFill>
        <p:spPr>
          <a:xfrm>
            <a:off x="6858000" y="1447920"/>
            <a:ext cx="1219320" cy="761760"/>
          </a:xfrm>
          <a:prstGeom prst="rect">
            <a:avLst/>
          </a:prstGeom>
          <a:ln w="0">
            <a:noFill/>
          </a:ln>
        </p:spPr>
      </p:pic>
      <p:pic>
        <p:nvPicPr>
          <p:cNvPr id="103" name="" descr=""/>
          <p:cNvPicPr/>
          <p:nvPr/>
        </p:nvPicPr>
        <p:blipFill>
          <a:blip r:embed="rId4"/>
          <a:stretch/>
        </p:blipFill>
        <p:spPr>
          <a:xfrm>
            <a:off x="6858000" y="2209680"/>
            <a:ext cx="1219320" cy="685800"/>
          </a:xfrm>
          <a:prstGeom prst="rect">
            <a:avLst/>
          </a:prstGeom>
          <a:ln w="0">
            <a:noFill/>
          </a:ln>
        </p:spPr>
      </p:pic>
      <p:pic>
        <p:nvPicPr>
          <p:cNvPr id="104" name="" descr=""/>
          <p:cNvPicPr/>
          <p:nvPr/>
        </p:nvPicPr>
        <p:blipFill>
          <a:blip r:embed="rId5"/>
          <a:stretch/>
        </p:blipFill>
        <p:spPr>
          <a:xfrm>
            <a:off x="5638680" y="2209680"/>
            <a:ext cx="121932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 cont..</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 dress for men is called djellaba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ong, loose, hooded garment with full sleeves. </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special occasions, men also wear a red cap called a Fez.</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arly all men wear soft leather slippers with no heel, often in yellow. </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women do as well but others wear high-heeled sandals, often in silver or gold tinsel. </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men’s djellabas are mostly bright colors with ornate patterns, stitching, or beading</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 wear djellabas in plainer, neutral colors. </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r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given to one of the most common types of domestic structures in Morocco, is a home found in a medina, or walled urban area of a cit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vel</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travelers find the early summer months to be the most comfortable time to visit</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in is not a threat and temperatures are warm during the d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easantly cool at night.</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s to visit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imperial cities</a:t>
            </a:r>
            <a:endParaRPr b="0" lang="en-US" sz="16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rakech, Fes and Meknes. </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nderful bazaars, palaces and bustling town squares.</a:t>
            </a:r>
            <a:endParaRPr b="0" lang="en-US" sz="14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mous for its beaches and some of the best seaside towns are on the Atlantic coast</a:t>
            </a:r>
            <a:endParaRPr b="0" lang="en-US" sz="16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saouira, </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ngier -- today is an important industrial centre and tourist destination</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ilah -- one of the most beautiful old cities</a:t>
            </a:r>
            <a:endParaRPr b="0" lang="en-US" sz="14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things to do:</a:t>
            </a:r>
            <a:endParaRPr b="0" lang="en-US" sz="16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hire a camel and trek through the Sahara; </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mb North Africa's highest peak in the Atlas Mountains</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y in a traditional Kasbah</a:t>
            </a:r>
            <a:endParaRPr b="0" lang="en-US" sz="1400" spc="-1" strike="noStrike">
              <a:solidFill>
                <a:srgbClr val="000000"/>
              </a:solidFill>
              <a:latin typeface="Tahoma"/>
            </a:endParaRPr>
          </a:p>
        </p:txBody>
      </p:sp>
      <p:pic>
        <p:nvPicPr>
          <p:cNvPr id="128" name="" descr=""/>
          <p:cNvPicPr/>
          <p:nvPr/>
        </p:nvPicPr>
        <p:blipFill>
          <a:blip r:embed="rId1"/>
          <a:stretch/>
        </p:blipFill>
        <p:spPr>
          <a:xfrm>
            <a:off x="6248520" y="457200"/>
            <a:ext cx="1039680" cy="1390680"/>
          </a:xfrm>
          <a:prstGeom prst="rect">
            <a:avLst/>
          </a:prstGeom>
          <a:ln w="0">
            <a:noFill/>
          </a:ln>
        </p:spPr>
      </p:pic>
      <p:pic>
        <p:nvPicPr>
          <p:cNvPr id="129" name="" descr=""/>
          <p:cNvPicPr/>
          <p:nvPr/>
        </p:nvPicPr>
        <p:blipFill>
          <a:blip r:embed="rId2"/>
          <a:stretch/>
        </p:blipFill>
        <p:spPr>
          <a:xfrm>
            <a:off x="457200" y="4724280"/>
            <a:ext cx="1065240" cy="154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6/09 </a:t>
            </a:r>
            <a:r>
              <a:rPr b="0" lang="en-US" sz="2400" spc="-1" strike="noStrike" u="sng">
                <a:solidFill>
                  <a:srgbClr val="ff0000"/>
                </a:solidFill>
                <a:uFillTx/>
                <a:latin typeface="Tahoma"/>
                <a:hlinkClick r:id="rId1"/>
              </a:rPr>
              <a:t>http://www.geographia.com/morocc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7/09 </a:t>
            </a:r>
            <a:r>
              <a:rPr b="0" lang="en-US" sz="2400" spc="-1" strike="noStrike" u="sng">
                <a:solidFill>
                  <a:srgbClr val="ff0000"/>
                </a:solidFill>
                <a:uFillTx/>
                <a:latin typeface="Tahoma"/>
                <a:hlinkClick r:id="rId2"/>
              </a:rPr>
              <a:t>http://www.cia.gov/library/publications/the-world-factbook/</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9/09 </a:t>
            </a:r>
            <a:r>
              <a:rPr b="0" lang="en-US" sz="2400" spc="-1" strike="noStrike" u="sng">
                <a:solidFill>
                  <a:srgbClr val="ff0000"/>
                </a:solidFill>
                <a:uFillTx/>
                <a:latin typeface="Tahoma"/>
                <a:hlinkClick r:id="rId3"/>
              </a:rPr>
              <a:t>http://www.nationalgeographic.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4"/>
              </a:rPr>
              <a:t>http://en.wikipedia.or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3/09 </a:t>
            </a:r>
            <a:r>
              <a:rPr b="0" lang="en-US" sz="2400" spc="-1" strike="noStrike" u="sng">
                <a:solidFill>
                  <a:srgbClr val="ff0000"/>
                </a:solidFill>
                <a:uFillTx/>
                <a:latin typeface="Tahoma"/>
                <a:hlinkClick r:id="rId5"/>
              </a:rPr>
              <a:t>http://goafrica.about.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placesonline.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morocco.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news.bbc.co.uk</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and of Morocco</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occo is located on the Northwestern tip of Afric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dered by Mauritania and Algeri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d from the continent by the Atlas Mountains and the Sahar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 separate mountain ranges, lush river valleys, sandy coasts, and wide expanses of deser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ddle Atl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Atl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i-Atlas</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7" name="" descr=""/>
          <p:cNvPicPr/>
          <p:nvPr/>
        </p:nvPicPr>
        <p:blipFill>
          <a:blip r:embed="rId1"/>
          <a:stretch/>
        </p:blipFill>
        <p:spPr>
          <a:xfrm>
            <a:off x="6781680" y="457200"/>
            <a:ext cx="1905120" cy="1427040"/>
          </a:xfrm>
          <a:prstGeom prst="rect">
            <a:avLst/>
          </a:prstGeom>
          <a:ln w="0">
            <a:noFill/>
          </a:ln>
        </p:spPr>
      </p:pic>
      <p:pic>
        <p:nvPicPr>
          <p:cNvPr id="108" name="" descr=""/>
          <p:cNvPicPr/>
          <p:nvPr/>
        </p:nvPicPr>
        <p:blipFill>
          <a:blip r:embed="rId2"/>
          <a:stretch/>
        </p:blipFill>
        <p:spPr>
          <a:xfrm>
            <a:off x="4648320" y="4648320"/>
            <a:ext cx="2276280" cy="15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L</a:t>
            </a:r>
            <a:r>
              <a:rPr b="0" lang="en-US" sz="6000" spc="-1" strike="noStrike">
                <a:solidFill>
                  <a:srgbClr val="333399"/>
                </a:solidFill>
                <a:latin typeface="Tahoma"/>
              </a:rPr>
              <a:t>a</a:t>
            </a:r>
            <a:r>
              <a:rPr b="0" lang="en-US" sz="5400" spc="-1" strike="noStrike">
                <a:solidFill>
                  <a:srgbClr val="333399"/>
                </a:solidFill>
                <a:latin typeface="Tahoma"/>
              </a:rPr>
              <a:t>n</a:t>
            </a:r>
            <a:r>
              <a:rPr b="0" lang="en-US" sz="4800" spc="-1" strike="noStrike">
                <a:solidFill>
                  <a:srgbClr val="333399"/>
                </a:solidFill>
                <a:latin typeface="Tahoma"/>
              </a:rPr>
              <a:t>d</a:t>
            </a:r>
            <a:r>
              <a:rPr b="0" lang="en-US" sz="4400" spc="-1" strike="noStrike">
                <a:solidFill>
                  <a:srgbClr val="333399"/>
                </a:solidFill>
                <a:latin typeface="Tahoma"/>
              </a:rPr>
              <a:t> </a:t>
            </a:r>
            <a:r>
              <a:rPr b="0" lang="en-US" sz="6600" spc="-1" strike="noStrike">
                <a:solidFill>
                  <a:srgbClr val="333399"/>
                </a:solidFill>
                <a:latin typeface="Tahoma"/>
              </a:rPr>
              <a:t>c</a:t>
            </a:r>
            <a:r>
              <a:rPr b="0" lang="en-US" sz="6000" spc="-1" strike="noStrike">
                <a:solidFill>
                  <a:srgbClr val="333399"/>
                </a:solidFill>
                <a:latin typeface="Tahoma"/>
              </a:rPr>
              <a:t>o</a:t>
            </a:r>
            <a:r>
              <a:rPr b="0" lang="en-US" sz="5400" spc="-1" strike="noStrike">
                <a:solidFill>
                  <a:srgbClr val="333399"/>
                </a:solidFill>
                <a:latin typeface="Tahoma"/>
              </a:rPr>
              <a:t>n</a:t>
            </a:r>
            <a:r>
              <a:rPr b="0" lang="en-US" sz="4800" spc="-1" strike="noStrike">
                <a:solidFill>
                  <a:srgbClr val="333399"/>
                </a:solidFill>
                <a:latin typeface="Tahoma"/>
              </a:rPr>
              <a:t>t</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th of Morocco</a:t>
            </a:r>
            <a:endParaRPr b="0" lang="en-US" sz="3200" spc="-1" strike="noStrike">
              <a:solidFill>
                <a:srgbClr val="000000"/>
              </a:solidFill>
              <a:latin typeface="Tahoma"/>
            </a:endParaRPr>
          </a:p>
          <a:p>
            <a:pPr lvl="2" marL="1371600" indent="-4572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e beaches</a:t>
            </a:r>
            <a:endParaRPr b="0" lang="en-US" sz="2400" spc="-1" strike="noStrike">
              <a:solidFill>
                <a:srgbClr val="000000"/>
              </a:solidFill>
              <a:latin typeface="Tahoma"/>
            </a:endParaRPr>
          </a:p>
          <a:p>
            <a:pPr lvl="2" marL="1371600" indent="-4572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sh highland valleys</a:t>
            </a:r>
            <a:endParaRPr b="0" lang="en-US" sz="2400" spc="-1" strike="noStrike">
              <a:solidFill>
                <a:srgbClr val="000000"/>
              </a:solidFill>
              <a:latin typeface="Tahoma"/>
            </a:endParaRPr>
          </a:p>
          <a:p>
            <a:pPr lvl="2" marL="1371600" indent="-4572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ocative old cities</a:t>
            </a:r>
            <a:endParaRPr b="0" lang="en-US" sz="24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ving south and east, over the ranges of the Atlases, and The Sahara stretches out to the horizon.</a:t>
            </a:r>
            <a:endParaRPr b="0" lang="en-US" sz="3200" spc="-1" strike="noStrike">
              <a:solidFill>
                <a:srgbClr val="000000"/>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1" name="" descr=""/>
          <p:cNvPicPr/>
          <p:nvPr/>
        </p:nvPicPr>
        <p:blipFill>
          <a:blip r:embed="rId1"/>
          <a:stretch/>
        </p:blipFill>
        <p:spPr>
          <a:xfrm>
            <a:off x="6248520" y="838080"/>
            <a:ext cx="2130480" cy="159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mate</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t is reliably dry</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mall amounts of rain fall between November and March</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mperature varies by season</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uthern and southeastern desert regions reach high temperatures during the hot summer months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er altitudes of the mountains are cool in summer evenings and freezing in winter</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dlife</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rbary Macaqu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rds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els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etah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rcas Gazell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gyptian Cobra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nnec Fox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sh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vernmen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ional Monarchy</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ital: Raba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ch 2, 1956 (from Franc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ion: 34,343,220 </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fe Expectancy</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 69 years </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 74 years </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 to vot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g Mohammed VI.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story</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occo was invaded first by the Vandals and then the Arabs in the 7th centur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15th century Spain and Portugal began to intrude into Morocc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ddle of the 19th century all of the European powers began a struggle for possession of the country.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11, France was formally acknowledged as protector of the greater part of the countr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in receiving a number of isolated locale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nch rule came to an end in 1953, although its cultural influence on Morocco remains eviden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day the country is ruled by King Mohammed VI.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going on in Morocc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tle : Morocco Battles with Hooliganism</a:t>
            </a:r>
            <a:r>
              <a:rPr b="0" lang="en-US" sz="1000" spc="-1" strike="noStrike">
                <a:solidFill>
                  <a:srgbClr val="000000"/>
                </a:solidFill>
                <a:latin typeface="Tahoma"/>
              </a:rPr>
              <a:t> </a:t>
            </a:r>
            <a:endParaRPr b="0" lang="en-US" sz="10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FRIEND OF MINE GOT HIT BY A FLARE IN HIS LEG AND HE IS STILL DISABLED," HE CONTINUES.  WITH A GROWING PROBLEM OF HOOLIGANISM IN MOROCCAN FOOTBALL, MOUTASSAMIM NOW PREFERS TO FOLLOW HIS COUNTRY'S DOMESTIC LEAGUE ON TELEVISION, ALONG WITH EUROPEAN FOOTBALL. THIS WEEK A CASABLANCA COURT SENT 14 UNRULY FANS TO PRISON, FOR TERMS BETWEEN TWO WEEKS AND TWO MONTHS. THE PRISON SENTENCES WERE PUNISHMENT FOR INCIDENTS AT THE END OF A MATCH BETWEEN RAJA CASABLANCA AND THE FAR RABAT IN JANUARY. THE SUPPORTERS ATTACKED CARS AND BUSES, INCIDENTS THAT ARE BECOMING ALL TOO COMMON AT MOROCCAN GAMES. A MEMBER OF THE MOROCCAN ROYAL FOOTBALL FEDERATION (FRMF) ADMITTED TO THE BBC THAT THE COUNTRY'S STADIUMS WERE NO LONGER FIT FOR A FAMILY DAY OUT. THE FRMF HAS ALREADY DECIDED TO GIVE TWO-YEAR STADIUM BANS TO THOSE FOUND GUILTY OF HOOLIGANISM. IN OCTOBER OF LAST YEAR A SPECIAL GOVERNMENT COMMITTEE WAS SET UP TO LOOK INTO THE PROBLEM OF FOOTBALL HOOLIGANISM.  SHORTLY BEFORE THIS MORE THAN 40 FANS WERE INJURED IN CLASHES IN A GAME IN MARRAKECH. SOUFIANE MOUTASSAMIMUNACCOMPANIED CHILDREN UNDER THE AGE OF 16 ARE NOW NOT ALLOWED TO ATTEND GAMES, AS YOUNG BOYS IN PARTICULAR HAVE BEEN BLAMED FOR MANY OF THE PROBLEMS AT MOROCCAN LEAGUE MATCHES. FRUSTRATED GROUPS OF MAINLY POOR YOUNG MEN GATHER OUTSIDE STADIUMS DURING GAMES, AND OFTEN PROVOKE CLASHES WITH THE POLICE IF THEY ARE NOT ALLOWED IN FOR FREE. A NEW BILL IS BEING STUDIED TO FIGHT BACK AGAINST THE THUGS, BUT FOR THE MOMENT THE PROBLEM PERSISTS. "THE GOVERNMENT HAS ALREADY TAKEN SOME ACTION, BUT IT HASN'T WORKED SO FAR," SAYS SOUFIANE. "CHILDREN ARE MEANT TO BE BANNED FROM THE STADIUM IF THEY ARE NOT ACCOMPANIED, BUT THIS LAW IS NOT APPLIED. "MOROCCO HAS A VERY BAD PROBLEM WITH HOOLIGANS NOW.“</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Y James Copnall, BBC Sport, Rabat</a:t>
            </a:r>
            <a:endParaRPr b="0" lang="en-US" sz="12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conomy</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occo's GDP growth rose to 5.3% in 2008</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ing poverty and providing jobs are key to domestic security and developmen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2000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tered a Free Trade Agreement (FTA) with the US.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il Exports: 24,360 bbl/day</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orts - clothing and textiles, electric components, inorganic chemicals, transistors, crude minerals, fertilizers (including phosphates), petroleum products, citrus fruits, vegetables, fish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s of Industry</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griculture: 44.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y: 19.8%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ces: 35.5%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15 and over can read and write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rency: Moroccan Dirham</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g: red with a green pentacle (five-pointed, star) known as Sulayman's (Solomon's) seal in the center of the fla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inating religion of Morocco is Islam</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 </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cal Arabic (not used in daily speech)</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ja-Arabic (spoken by some 70%)</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rber (spoken language by some 30%), </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nch often the language of business, government, military and diplomacy </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ople express themselves in many way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pets, clothing, jewelry, ceramics, sculpture, painting, carving, and calligraphy</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0:07Z</dcterms:created>
  <dc:creator>amandalguinn</dc:creator>
  <dc:description/>
  <dc:language>en-US</dc:language>
  <cp:lastModifiedBy>amandalguinn</cp:lastModifiedBy>
  <dcterms:modified xsi:type="dcterms:W3CDTF">2009-02-23T17:38:18Z</dcterms:modified>
  <cp:revision>28</cp:revision>
  <dc:subject/>
  <dc:title>Morocco</dc:title>
</cp:coreProperties>
</file>